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253C1-7C45-4BA4-B3D1-A521D5016C0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2855880" y="8710560"/>
            <a:ext cx="114480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ge </a:t>
            </a:r>
            <a:fld id="{5D583A19-E6FB-4BD2-978B-C4608818428F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Img"/>
          </p:nvPr>
        </p:nvSpPr>
        <p:spPr>
          <a:xfrm>
            <a:off x="1150920" y="694800"/>
            <a:ext cx="4556160" cy="341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785B0-97BD-453E-AA9D-06935ED22838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ABDCE-F76E-4C3E-A29B-CA5CD339DDFE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12608-78CB-4594-B638-F08A73F0C8E4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87B3B-EB1F-4568-A122-8D88D467E081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729D7-4563-428D-A7B2-A9CA542543E9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25DF1-7F9E-4673-BA9D-54378F8F28FB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D8AC6-906E-4CEE-852D-1946041080C2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4CA2-A00A-4911-B450-0EE7D09D15A1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6CB58-3955-4789-A875-502C9B10F953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09643-71A9-4878-BEF0-D18D7AEFD1D8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C6579-8934-4D34-91F4-6EEED79170AE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19A28-D95B-44BB-BA2B-7A2AB71D42CE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E90A7-01C5-4CD1-A44D-0769E203D709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3B6F3-4CFC-4BE8-80FD-9E7D83E46D68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C6EE-D24D-4E43-A116-88D8245ADF06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6A109-5FDA-4BDB-85CE-765C80E726C6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4F865-C322-45DF-B6E3-642E78928754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BA481-C318-4277-AAB7-328DDDD6351C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52AF4-0D97-4DA5-8CB2-6ECD726E16A4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0DB4-509C-49D2-AE7B-E44680D6B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63C9-7922-4A18-9CCB-9D74A4144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6BD5-29B3-429A-A452-0D7521948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8888-B807-499F-BF5A-E13242264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E8C4A-C59B-4D3A-83ED-7002C00B0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9DEBB-DBD9-4B1A-8B19-EB1FA7103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B98F5-1558-4BB8-8788-4CDDAE6E3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CFD2B-9919-4371-8FFB-DE60F5901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12965-F3B4-4E62-AD58-05E2997DB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A2E13-63C9-4129-ACAD-596868BFF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5FEB9-CC7F-44D0-ABD9-EEBA18B4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CFA8-5987-4F70-9458-49C9161C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57542-69EE-4386-B761-02D2E83B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2698F-0001-4C47-8079-7F8448FE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A1657-06C4-4B4D-B90F-D1030D964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A589F-6083-4E52-B4C4-34C4DFEE5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5811E-859A-45EE-A00A-21F1211B4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4C0E-F1B5-4E39-A613-223642280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5354-7C56-4152-B8E1-E7DC1EBFD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7827-27EC-4947-A441-545DD51A1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54B1-D594-4131-9E76-8A99064B9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8227-E1AE-43A6-AE33-696E97B1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BA75-0507-40DB-A635-F093CC7B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441B-21F0-4375-9F23-D811912E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0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-32007"/>
                    <a:pt x="12241" y="-22336"/>
                    <a:pt x="312" y="-22336"/>
                  </a:cubicBezTo>
                  <a:cubicBezTo>
                    <a:pt x="207" y="-22337"/>
                    <a:pt x="103" y="-22337"/>
                    <a:pt x="0" y="-22339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0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-32007"/>
                    <a:pt x="12241" y="-22336"/>
                    <a:pt x="312" y="-22336"/>
                  </a:cubicBezTo>
                  <a:cubicBezTo>
                    <a:pt x="207" y="-22337"/>
                    <a:pt x="103" y="-22337"/>
                    <a:pt x="0" y="-22339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0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-32007"/>
                    <a:pt x="12253" y="-22336"/>
                    <a:pt x="324" y="-22336"/>
                  </a:cubicBezTo>
                  <a:cubicBezTo>
                    <a:pt x="215" y="-22337"/>
                    <a:pt x="107" y="-22337"/>
                    <a:pt x="0" y="-22339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0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-32007"/>
                    <a:pt x="12253" y="-22336"/>
                    <a:pt x="324" y="-22336"/>
                  </a:cubicBezTo>
                  <a:cubicBezTo>
                    <a:pt x="215" y="-22337"/>
                    <a:pt x="107" y="-22337"/>
                    <a:pt x="0" y="-22339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0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-32007"/>
                    <a:pt x="12254" y="-22336"/>
                    <a:pt x="325" y="-22336"/>
                  </a:cubicBezTo>
                  <a:cubicBezTo>
                    <a:pt x="216" y="-22337"/>
                    <a:pt x="108" y="-22337"/>
                    <a:pt x="0" y="-22339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0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-32007"/>
                    <a:pt x="12254" y="-22336"/>
                    <a:pt x="325" y="-22336"/>
                  </a:cubicBezTo>
                  <a:cubicBezTo>
                    <a:pt x="216" y="-22337"/>
                    <a:pt x="108" y="-22337"/>
                    <a:pt x="0" y="-22339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FDB3F-944F-47E2-9DDC-D3168258C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0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-32007"/>
                    <a:pt x="12241" y="-22336"/>
                    <a:pt x="312" y="-22336"/>
                  </a:cubicBezTo>
                  <a:cubicBezTo>
                    <a:pt x="207" y="-22337"/>
                    <a:pt x="103" y="-22337"/>
                    <a:pt x="0" y="-22339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0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-32007"/>
                    <a:pt x="12241" y="-22336"/>
                    <a:pt x="312" y="-22336"/>
                  </a:cubicBezTo>
                  <a:cubicBezTo>
                    <a:pt x="207" y="-22337"/>
                    <a:pt x="103" y="-22337"/>
                    <a:pt x="0" y="-22339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0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-32007"/>
                    <a:pt x="12253" y="-22336"/>
                    <a:pt x="324" y="-22336"/>
                  </a:cubicBezTo>
                  <a:cubicBezTo>
                    <a:pt x="215" y="-22337"/>
                    <a:pt x="107" y="-22337"/>
                    <a:pt x="0" y="-22339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0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-32007"/>
                    <a:pt x="12253" y="-22336"/>
                    <a:pt x="324" y="-22336"/>
                  </a:cubicBezTo>
                  <a:cubicBezTo>
                    <a:pt x="215" y="-22337"/>
                    <a:pt x="107" y="-22337"/>
                    <a:pt x="0" y="-22339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0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-32007"/>
                    <a:pt x="12254" y="-22336"/>
                    <a:pt x="325" y="-22336"/>
                  </a:cubicBezTo>
                  <a:cubicBezTo>
                    <a:pt x="216" y="-22337"/>
                    <a:pt x="108" y="-22337"/>
                    <a:pt x="0" y="-22339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0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-32007"/>
                    <a:pt x="12254" y="-22336"/>
                    <a:pt x="325" y="-22336"/>
                  </a:cubicBezTo>
                  <a:cubicBezTo>
                    <a:pt x="216" y="-22337"/>
                    <a:pt x="108" y="-22337"/>
                    <a:pt x="0" y="-22339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ED58D-9F57-4051-B282-039E7C01587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222120" y="1301760"/>
            <a:ext cx="8769600" cy="51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5410080" cy="242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11:</a:t>
            </a:r>
            <a:br>
              <a:rPr sz="4000"/>
            </a:b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Capital Budgeting and </a:t>
            </a:r>
            <a:br>
              <a:rPr sz="4000"/>
            </a:b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Risk Analysi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417600" y="1994040"/>
            <a:ext cx="8269200" cy="4117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759800" cy="93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Certainty Equivalent Approach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925040" cy="485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Adjusts th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risky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after-tax cash flows to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certain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cash flow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The idea: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7"/>
          <p:cNvGrpSpPr/>
          <p:nvPr/>
        </p:nvGrpSpPr>
        <p:grpSpPr>
          <a:xfrm>
            <a:off x="685800" y="3733920"/>
            <a:ext cx="7892640" cy="2139840"/>
            <a:chOff x="685800" y="3733920"/>
            <a:chExt cx="7892640" cy="2139840"/>
          </a:xfrm>
        </p:grpSpPr>
        <p:sp>
          <p:nvSpPr>
            <p:cNvPr id="192" name="Rectangle 2"/>
            <p:cNvSpPr/>
            <p:nvPr/>
          </p:nvSpPr>
          <p:spPr>
            <a:xfrm>
              <a:off x="685800" y="3733920"/>
              <a:ext cx="1587240" cy="2139840"/>
            </a:xfrm>
            <a:prstGeom prst="rect">
              <a:avLst/>
            </a:prstGeom>
            <a:solidFill>
              <a:srgbClr val="5f5f5f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3" name="Rectangle 3"/>
            <p:cNvSpPr/>
            <p:nvPr/>
          </p:nvSpPr>
          <p:spPr>
            <a:xfrm>
              <a:off x="6876720" y="3733920"/>
              <a:ext cx="1701720" cy="2139840"/>
            </a:xfrm>
            <a:prstGeom prst="rect">
              <a:avLst/>
            </a:prstGeom>
            <a:solidFill>
              <a:srgbClr val="5f5f5f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4" name="Rectangle 4"/>
            <p:cNvSpPr/>
            <p:nvPr/>
          </p:nvSpPr>
          <p:spPr>
            <a:xfrm>
              <a:off x="3295440" y="3733920"/>
              <a:ext cx="2615760" cy="2139840"/>
            </a:xfrm>
            <a:prstGeom prst="rect">
              <a:avLst/>
            </a:prstGeom>
            <a:solidFill>
              <a:srgbClr val="5f5f5f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759800" cy="93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Certainty Equivalent Approach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Adjusts th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risky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after-tax cash flows to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certain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cash flow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The idea: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isky              Certainty             Certai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ash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X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quivalent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=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Cash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low               Factor (a)               Flow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759800" cy="93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Certainty Equivalent Approach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98" name="Group 3"/>
          <p:cNvGrpSpPr/>
          <p:nvPr/>
        </p:nvGrpSpPr>
        <p:grpSpPr>
          <a:xfrm>
            <a:off x="425520" y="1346040"/>
            <a:ext cx="7893000" cy="2140200"/>
            <a:chOff x="425520" y="1346040"/>
            <a:chExt cx="7893000" cy="2140200"/>
          </a:xfrm>
        </p:grpSpPr>
        <p:sp>
          <p:nvSpPr>
            <p:cNvPr id="199" name="Rectangle 4"/>
            <p:cNvSpPr/>
            <p:nvPr/>
          </p:nvSpPr>
          <p:spPr>
            <a:xfrm>
              <a:off x="425520" y="1346040"/>
              <a:ext cx="1587600" cy="2140200"/>
            </a:xfrm>
            <a:prstGeom prst="rect">
              <a:avLst/>
            </a:prstGeom>
            <a:solidFill>
              <a:srgbClr val="5f5f5f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0" name="Rectangle 5"/>
            <p:cNvSpPr/>
            <p:nvPr/>
          </p:nvSpPr>
          <p:spPr>
            <a:xfrm>
              <a:off x="6616800" y="1346040"/>
              <a:ext cx="1701720" cy="2140200"/>
            </a:xfrm>
            <a:prstGeom prst="rect">
              <a:avLst/>
            </a:prstGeom>
            <a:solidFill>
              <a:srgbClr val="5f5f5f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1" name="Rectangle 6"/>
            <p:cNvSpPr/>
            <p:nvPr/>
          </p:nvSpPr>
          <p:spPr>
            <a:xfrm>
              <a:off x="3035160" y="1346040"/>
              <a:ext cx="2616480" cy="2140200"/>
            </a:xfrm>
            <a:prstGeom prst="rect">
              <a:avLst/>
            </a:prstGeom>
            <a:solidFill>
              <a:srgbClr val="5f5f5f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71320" y="1485720"/>
            <a:ext cx="7924680" cy="485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isky              Certainty             Certai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ash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X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quivalent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=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Cash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low               Factor (a)               Flow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Risky                                               “safe”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$1000                    .70                      $70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759800" cy="93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Certainty Equivalent Approach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04" name="Group 3"/>
          <p:cNvGrpSpPr/>
          <p:nvPr/>
        </p:nvGrpSpPr>
        <p:grpSpPr>
          <a:xfrm>
            <a:off x="425520" y="1346040"/>
            <a:ext cx="7893000" cy="2140200"/>
            <a:chOff x="425520" y="1346040"/>
            <a:chExt cx="7893000" cy="2140200"/>
          </a:xfrm>
        </p:grpSpPr>
        <p:sp>
          <p:nvSpPr>
            <p:cNvPr id="205" name="Rectangle 4"/>
            <p:cNvSpPr/>
            <p:nvPr/>
          </p:nvSpPr>
          <p:spPr>
            <a:xfrm>
              <a:off x="425520" y="1346040"/>
              <a:ext cx="1587600" cy="2140200"/>
            </a:xfrm>
            <a:prstGeom prst="rect">
              <a:avLst/>
            </a:prstGeom>
            <a:solidFill>
              <a:srgbClr val="5f5f5f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6" name="Rectangle 5"/>
            <p:cNvSpPr/>
            <p:nvPr/>
          </p:nvSpPr>
          <p:spPr>
            <a:xfrm>
              <a:off x="6616800" y="1346040"/>
              <a:ext cx="1701720" cy="2140200"/>
            </a:xfrm>
            <a:prstGeom prst="rect">
              <a:avLst/>
            </a:prstGeom>
            <a:solidFill>
              <a:srgbClr val="5f5f5f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Rectangle 6"/>
            <p:cNvSpPr/>
            <p:nvPr/>
          </p:nvSpPr>
          <p:spPr>
            <a:xfrm>
              <a:off x="3035160" y="1346040"/>
              <a:ext cx="2616480" cy="2140200"/>
            </a:xfrm>
            <a:prstGeom prst="rect">
              <a:avLst/>
            </a:prstGeom>
            <a:solidFill>
              <a:srgbClr val="5f5f5f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71320" y="1485720"/>
            <a:ext cx="7924680" cy="485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isky              Certainty             Certai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ash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X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quivalent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=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Cash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low               Factor (a)               Flow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Risky                                               “safe”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$1000                    .95                      $95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1015920" y="1758600"/>
            <a:ext cx="7207200" cy="187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The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greater</a:t>
            </a: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 the risk associated with a particular cash flow, the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smaller</a:t>
            </a: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 the CE factor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07400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Certainty Equivalent Method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6476760" y="3200400"/>
            <a:ext cx="337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t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12" name="Group 14"/>
          <p:cNvGrpSpPr/>
          <p:nvPr/>
        </p:nvGrpSpPr>
        <p:grpSpPr>
          <a:xfrm>
            <a:off x="838080" y="2133720"/>
            <a:ext cx="7988400" cy="2387520"/>
            <a:chOff x="838080" y="2133720"/>
            <a:chExt cx="7988400" cy="2387520"/>
          </a:xfrm>
        </p:grpSpPr>
        <p:sp>
          <p:nvSpPr>
            <p:cNvPr id="213" name="AutoShape 3"/>
            <p:cNvSpPr/>
            <p:nvPr/>
          </p:nvSpPr>
          <p:spPr>
            <a:xfrm>
              <a:off x="838080" y="2133720"/>
              <a:ext cx="7988400" cy="2387520"/>
            </a:xfrm>
            <a:prstGeom prst="roundRect">
              <a:avLst>
                <a:gd name="adj" fmla="val 12495"/>
              </a:avLst>
            </a:prstGeom>
            <a:noFill/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4" name="Rectangle 4"/>
            <p:cNvSpPr/>
            <p:nvPr/>
          </p:nvSpPr>
          <p:spPr>
            <a:xfrm>
              <a:off x="996120" y="2892600"/>
              <a:ext cx="7818840" cy="7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cc"/>
                  </a:solidFill>
                  <a:latin typeface="Times New Roman"/>
                </a:rPr>
                <a:t>NPV   =                              -   IO  </a:t>
              </a:r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5" name="Rectangle 5"/>
            <p:cNvSpPr/>
            <p:nvPr/>
          </p:nvSpPr>
          <p:spPr>
            <a:xfrm>
              <a:off x="4528800" y="2587680"/>
              <a:ext cx="2064240" cy="14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cc"/>
                  </a:solidFill>
                  <a:latin typeface="Times New Roman"/>
                </a:rPr>
                <a:t>  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1" lang="en-US" sz="4400" spc="-1" strike="noStrike">
                  <a:solidFill>
                    <a:srgbClr val="ffffcc"/>
                  </a:solidFill>
                  <a:latin typeface="Times New Roman"/>
                </a:rPr>
                <a:t> ACF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t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cc"/>
                  </a:solidFill>
                  <a:latin typeface="Times New Roman"/>
                </a:rPr>
                <a:t>(1 + k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rf</a:t>
              </a:r>
              <a:r>
                <a:rPr b="1" lang="en-US" sz="4400" spc="-1" strike="noStrike">
                  <a:solidFill>
                    <a:srgbClr val="ffffcc"/>
                  </a:solidFill>
                  <a:latin typeface="Times New Roman"/>
                </a:rPr>
                <a:t>)</a:t>
              </a:r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" name="Line 7"/>
            <p:cNvSpPr/>
            <p:nvPr/>
          </p:nvSpPr>
          <p:spPr>
            <a:xfrm>
              <a:off x="4317840" y="3251160"/>
              <a:ext cx="2419560" cy="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" name="Rectangle 8"/>
            <p:cNvSpPr/>
            <p:nvPr/>
          </p:nvSpPr>
          <p:spPr>
            <a:xfrm>
              <a:off x="3292200" y="2182680"/>
              <a:ext cx="826560" cy="22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n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t=1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8" name="Freeform 9"/>
            <p:cNvSpPr/>
            <p:nvPr/>
          </p:nvSpPr>
          <p:spPr>
            <a:xfrm>
              <a:off x="4394160" y="2755800"/>
              <a:ext cx="382680" cy="382680"/>
            </a:xfrm>
            <a:custGeom>
              <a:avLst/>
              <a:gdLst/>
              <a:ahLst/>
              <a:rect l="l" t="t" r="r" b="b"/>
              <a:pathLst>
                <a:path w="241" h="241">
                  <a:moveTo>
                    <a:pt x="192" y="0"/>
                  </a:moveTo>
                  <a:lnTo>
                    <a:pt x="192" y="36"/>
                  </a:lnTo>
                  <a:lnTo>
                    <a:pt x="192" y="72"/>
                  </a:lnTo>
                  <a:lnTo>
                    <a:pt x="192" y="108"/>
                  </a:lnTo>
                  <a:lnTo>
                    <a:pt x="168" y="144"/>
                  </a:lnTo>
                  <a:lnTo>
                    <a:pt x="144" y="180"/>
                  </a:lnTo>
                  <a:lnTo>
                    <a:pt x="108" y="204"/>
                  </a:lnTo>
                  <a:lnTo>
                    <a:pt x="72" y="216"/>
                  </a:lnTo>
                  <a:lnTo>
                    <a:pt x="36" y="216"/>
                  </a:lnTo>
                  <a:lnTo>
                    <a:pt x="12" y="180"/>
                  </a:lnTo>
                  <a:lnTo>
                    <a:pt x="0" y="144"/>
                  </a:lnTo>
                  <a:lnTo>
                    <a:pt x="0" y="108"/>
                  </a:lnTo>
                  <a:lnTo>
                    <a:pt x="36" y="84"/>
                  </a:lnTo>
                  <a:lnTo>
                    <a:pt x="72" y="72"/>
                  </a:lnTo>
                  <a:lnTo>
                    <a:pt x="108" y="72"/>
                  </a:lnTo>
                  <a:lnTo>
                    <a:pt x="144" y="72"/>
                  </a:lnTo>
                  <a:lnTo>
                    <a:pt x="180" y="96"/>
                  </a:lnTo>
                  <a:lnTo>
                    <a:pt x="192" y="132"/>
                  </a:lnTo>
                  <a:lnTo>
                    <a:pt x="204" y="168"/>
                  </a:lnTo>
                  <a:lnTo>
                    <a:pt x="228" y="204"/>
                  </a:lnTo>
                  <a:lnTo>
                    <a:pt x="240" y="240"/>
                  </a:lnTo>
                </a:path>
              </a:pathLst>
            </a:custGeom>
            <a:noFill/>
            <a:ln cap="rnd" w="50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aphicFrame>
        <p:nvGraphicFramePr>
          <p:cNvPr id="219" name="Object 10"/>
          <p:cNvGraphicFramePr/>
          <p:nvPr/>
        </p:nvGraphicFramePr>
        <p:xfrm>
          <a:off x="8715240" y="3943440"/>
          <a:ext cx="219240" cy="170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15240" y="3943440"/>
                    <a:ext cx="219240" cy="17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Rectangle 12"/>
          <p:cNvSpPr/>
          <p:nvPr/>
        </p:nvSpPr>
        <p:spPr>
          <a:xfrm>
            <a:off x="3124440" y="2362320"/>
            <a:ext cx="98208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endParaRPr b="1" lang="en-US" sz="10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06040" y="404640"/>
            <a:ext cx="7340760" cy="8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Certainty Equivalent Approach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7791480" cy="46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teps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1)  Adjust all after-tax cash flows by certainty equivalent factors to get certain cash flow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2)  Discount the certain cash flows by the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isk-free rate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of interest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600" y="151920"/>
            <a:ext cx="6159600" cy="135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Incorporating Risk into Capital Budgeting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8477280" cy="253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Risk-Adjusted Discount Rat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447560" y="235080"/>
            <a:ext cx="6933960" cy="13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How can we adjust this model to take risk into account?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27" name="Group 11"/>
          <p:cNvGrpSpPr/>
          <p:nvPr/>
        </p:nvGrpSpPr>
        <p:grpSpPr>
          <a:xfrm>
            <a:off x="838080" y="2057400"/>
            <a:ext cx="7900560" cy="2349360"/>
            <a:chOff x="838080" y="2057400"/>
            <a:chExt cx="7900560" cy="2349360"/>
          </a:xfrm>
        </p:grpSpPr>
        <p:sp>
          <p:nvSpPr>
            <p:cNvPr id="228" name="AutoShape 3"/>
            <p:cNvSpPr/>
            <p:nvPr/>
          </p:nvSpPr>
          <p:spPr>
            <a:xfrm>
              <a:off x="838080" y="2057400"/>
              <a:ext cx="7778520" cy="2349360"/>
            </a:xfrm>
            <a:prstGeom prst="roundRect">
              <a:avLst>
                <a:gd name="adj" fmla="val 12495"/>
              </a:avLst>
            </a:prstGeom>
            <a:noFill/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29" name="Group 4"/>
            <p:cNvGrpSpPr/>
            <p:nvPr/>
          </p:nvGrpSpPr>
          <p:grpSpPr>
            <a:xfrm>
              <a:off x="919800" y="2087280"/>
              <a:ext cx="7818840" cy="2287080"/>
              <a:chOff x="919800" y="2087280"/>
              <a:chExt cx="7818840" cy="2287080"/>
            </a:xfrm>
          </p:grpSpPr>
          <p:sp>
            <p:nvSpPr>
              <p:cNvPr id="230" name="Rectangle 5"/>
              <p:cNvSpPr/>
              <p:nvPr/>
            </p:nvSpPr>
            <p:spPr>
              <a:xfrm>
                <a:off x="919800" y="2796840"/>
                <a:ext cx="7818840" cy="76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ffff"/>
                    </a:solidFill>
                    <a:latin typeface="Times New Roman"/>
                  </a:rPr>
                  <a:t>NPV   =                              -   IO  </a:t>
                </a:r>
                <a:endParaRPr b="1" lang="en-US" sz="4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1" name="Rectangle 6"/>
              <p:cNvSpPr/>
              <p:nvPr/>
            </p:nvSpPr>
            <p:spPr>
              <a:xfrm>
                <a:off x="4453200" y="2492280"/>
                <a:ext cx="1747080" cy="143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1" lang="en-US" sz="4400" spc="-1" strike="noStrike">
                    <a:solidFill>
                      <a:srgbClr val="ffffff"/>
                    </a:solidFill>
                    <a:latin typeface="Times New Roman"/>
                  </a:rPr>
                  <a:t>ACF</a:t>
                </a: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ffff"/>
                    </a:solidFill>
                    <a:latin typeface="Times New Roman"/>
                  </a:rPr>
                  <a:t>(1 + k)</a:t>
                </a:r>
                <a:endParaRPr b="1" lang="en-US" sz="4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2" name="Rectangle 7"/>
              <p:cNvSpPr/>
              <p:nvPr/>
            </p:nvSpPr>
            <p:spPr>
              <a:xfrm>
                <a:off x="6244560" y="3097080"/>
                <a:ext cx="3373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3" name="Line 8"/>
              <p:cNvSpPr/>
              <p:nvPr/>
            </p:nvSpPr>
            <p:spPr>
              <a:xfrm>
                <a:off x="4222440" y="3155760"/>
                <a:ext cx="228600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4" name="Rectangle 9"/>
              <p:cNvSpPr/>
              <p:nvPr/>
            </p:nvSpPr>
            <p:spPr>
              <a:xfrm>
                <a:off x="3215880" y="2087280"/>
                <a:ext cx="826560" cy="22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  </a:t>
                </a: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n</a:t>
                </a:r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t=1</a:t>
                </a:r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5" name="Rectangle 10"/>
              <p:cNvSpPr/>
              <p:nvPr/>
            </p:nvSpPr>
            <p:spPr>
              <a:xfrm>
                <a:off x="3075120" y="2442960"/>
                <a:ext cx="982080" cy="170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</a:t>
                </a:r>
                <a:endParaRPr b="1" lang="en-US" sz="10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</p:spTree>
  </p:cSld>
  <p:transition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693396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How can we adjust this model to take risk into account?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294920" y="4876560"/>
            <a:ext cx="642636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djust the discount rate (k)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38" name="Group 12"/>
          <p:cNvGrpSpPr/>
          <p:nvPr/>
        </p:nvGrpSpPr>
        <p:grpSpPr>
          <a:xfrm>
            <a:off x="838080" y="2057400"/>
            <a:ext cx="7900560" cy="2349360"/>
            <a:chOff x="838080" y="2057400"/>
            <a:chExt cx="7900560" cy="2349360"/>
          </a:xfrm>
        </p:grpSpPr>
        <p:sp>
          <p:nvSpPr>
            <p:cNvPr id="239" name="AutoShape 13"/>
            <p:cNvSpPr/>
            <p:nvPr/>
          </p:nvSpPr>
          <p:spPr>
            <a:xfrm>
              <a:off x="838080" y="2057400"/>
              <a:ext cx="7778520" cy="2349360"/>
            </a:xfrm>
            <a:prstGeom prst="roundRect">
              <a:avLst>
                <a:gd name="adj" fmla="val 12495"/>
              </a:avLst>
            </a:prstGeom>
            <a:noFill/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40" name="Group 14"/>
            <p:cNvGrpSpPr/>
            <p:nvPr/>
          </p:nvGrpSpPr>
          <p:grpSpPr>
            <a:xfrm>
              <a:off x="919800" y="2087280"/>
              <a:ext cx="7818840" cy="2287080"/>
              <a:chOff x="919800" y="2087280"/>
              <a:chExt cx="7818840" cy="2287080"/>
            </a:xfrm>
          </p:grpSpPr>
          <p:sp>
            <p:nvSpPr>
              <p:cNvPr id="241" name="Rectangle 15"/>
              <p:cNvSpPr/>
              <p:nvPr/>
            </p:nvSpPr>
            <p:spPr>
              <a:xfrm>
                <a:off x="919800" y="2796840"/>
                <a:ext cx="7818840" cy="76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ffff"/>
                    </a:solidFill>
                    <a:latin typeface="Times New Roman"/>
                  </a:rPr>
                  <a:t>NPV   =                              -   IO  </a:t>
                </a:r>
                <a:endParaRPr b="1" lang="en-US" sz="4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2" name="Rectangle 16"/>
              <p:cNvSpPr/>
              <p:nvPr/>
            </p:nvSpPr>
            <p:spPr>
              <a:xfrm>
                <a:off x="4453200" y="2492280"/>
                <a:ext cx="1747080" cy="143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1" lang="en-US" sz="4400" spc="-1" strike="noStrike">
                    <a:solidFill>
                      <a:srgbClr val="ffffff"/>
                    </a:solidFill>
                    <a:latin typeface="Times New Roman"/>
                  </a:rPr>
                  <a:t>ACF</a:t>
                </a: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ffff"/>
                    </a:solidFill>
                    <a:latin typeface="Times New Roman"/>
                  </a:rPr>
                  <a:t>(1 + k)</a:t>
                </a:r>
                <a:endParaRPr b="1" lang="en-US" sz="4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3" name="Rectangle 17"/>
              <p:cNvSpPr/>
              <p:nvPr/>
            </p:nvSpPr>
            <p:spPr>
              <a:xfrm>
                <a:off x="6244560" y="3097080"/>
                <a:ext cx="3373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4" name="Line 18"/>
              <p:cNvSpPr/>
              <p:nvPr/>
            </p:nvSpPr>
            <p:spPr>
              <a:xfrm>
                <a:off x="4222440" y="3155760"/>
                <a:ext cx="228600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5" name="Rectangle 19"/>
              <p:cNvSpPr/>
              <p:nvPr/>
            </p:nvSpPr>
            <p:spPr>
              <a:xfrm>
                <a:off x="3215880" y="2087280"/>
                <a:ext cx="826560" cy="22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  </a:t>
                </a: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n</a:t>
                </a:r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t=1</a:t>
                </a:r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6" name="Rectangle 20"/>
              <p:cNvSpPr/>
              <p:nvPr/>
            </p:nvSpPr>
            <p:spPr>
              <a:xfrm>
                <a:off x="3075120" y="2442960"/>
                <a:ext cx="982080" cy="170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</a:t>
                </a:r>
                <a:endParaRPr b="1" lang="en-US" sz="10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Three Measures of a Project’s Risk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04" name="Group 18"/>
          <p:cNvGrpSpPr/>
          <p:nvPr/>
        </p:nvGrpSpPr>
        <p:grpSpPr>
          <a:xfrm>
            <a:off x="3048120" y="1143000"/>
            <a:ext cx="2228760" cy="1447560"/>
            <a:chOff x="3048120" y="1143000"/>
            <a:chExt cx="2228760" cy="1447560"/>
          </a:xfrm>
        </p:grpSpPr>
        <p:sp>
          <p:nvSpPr>
            <p:cNvPr id="105" name="Oval 3"/>
            <p:cNvSpPr/>
            <p:nvPr/>
          </p:nvSpPr>
          <p:spPr>
            <a:xfrm>
              <a:off x="3048120" y="1143000"/>
              <a:ext cx="2209680" cy="1447560"/>
            </a:xfrm>
            <a:prstGeom prst="ellipse">
              <a:avLst/>
            </a:prstGeom>
            <a:solidFill>
              <a:srgbClr val="000066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" name="Text Box 4"/>
            <p:cNvSpPr/>
            <p:nvPr/>
          </p:nvSpPr>
          <p:spPr>
            <a:xfrm>
              <a:off x="3197160" y="1523880"/>
              <a:ext cx="2079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Project Standing </a:t>
              </a:r>
              <a:endParaRPr b="1" lang="en-US" sz="20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Alone Risk</a:t>
              </a:r>
              <a:endParaRPr b="1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71240" y="457200"/>
            <a:ext cx="690228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Risk-Adjusted Discount Rate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7467480" cy="331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Simply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djust the discount rate (k)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to reflect higher risk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Riskier projects will use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igher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risk-adjusted discount rate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alculate NPV using the new risk-adjusted discount rat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pull dir="ru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074000" cy="7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Risk-Adjusted Discount Rate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50" name="Group 12"/>
          <p:cNvGrpSpPr/>
          <p:nvPr/>
        </p:nvGrpSpPr>
        <p:grpSpPr>
          <a:xfrm>
            <a:off x="838080" y="2057400"/>
            <a:ext cx="7988400" cy="2387520"/>
            <a:chOff x="838080" y="2057400"/>
            <a:chExt cx="7988400" cy="2387520"/>
          </a:xfrm>
        </p:grpSpPr>
        <p:sp>
          <p:nvSpPr>
            <p:cNvPr id="251" name="AutoShape 2"/>
            <p:cNvSpPr/>
            <p:nvPr/>
          </p:nvSpPr>
          <p:spPr>
            <a:xfrm>
              <a:off x="838080" y="2057400"/>
              <a:ext cx="7988400" cy="2387520"/>
            </a:xfrm>
            <a:prstGeom prst="roundRect">
              <a:avLst>
                <a:gd name="adj" fmla="val 12495"/>
              </a:avLst>
            </a:prstGeom>
            <a:noFill/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2" name="Rectangle 4"/>
            <p:cNvSpPr/>
            <p:nvPr/>
          </p:nvSpPr>
          <p:spPr>
            <a:xfrm>
              <a:off x="996120" y="2816280"/>
              <a:ext cx="7818840" cy="7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cc"/>
                  </a:solidFill>
                  <a:latin typeface="Times New Roman"/>
                </a:rPr>
                <a:t>NPV   =                              -   IO  </a:t>
              </a:r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3" name="Rectangle 5"/>
            <p:cNvSpPr/>
            <p:nvPr/>
          </p:nvSpPr>
          <p:spPr>
            <a:xfrm>
              <a:off x="4529160" y="2511360"/>
              <a:ext cx="2027520" cy="14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r>
                <a:rPr b="1" lang="en-US" sz="4400" spc="-1" strike="noStrike">
                  <a:solidFill>
                    <a:srgbClr val="ffffcc"/>
                  </a:solidFill>
                  <a:latin typeface="Times New Roman"/>
                </a:rPr>
                <a:t>ACF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t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cc"/>
                  </a:solidFill>
                  <a:latin typeface="Times New Roman"/>
                </a:rPr>
                <a:t>(1 + </a:t>
              </a:r>
              <a:r>
                <a:rPr b="1" lang="en-US" sz="4400" spc="-1" strike="noStrike">
                  <a:solidFill>
                    <a:srgbClr val="ffffff"/>
                  </a:solidFill>
                  <a:latin typeface="Times New Roman"/>
                </a:rPr>
                <a:t>k*</a:t>
              </a:r>
              <a:r>
                <a:rPr b="1" lang="en-US" sz="4400" spc="-1" strike="noStrike">
                  <a:solidFill>
                    <a:srgbClr val="ffffcc"/>
                  </a:solidFill>
                  <a:latin typeface="Times New Roman"/>
                </a:rPr>
                <a:t>)</a:t>
              </a:r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4" name="Rectangle 6"/>
            <p:cNvSpPr/>
            <p:nvPr/>
          </p:nvSpPr>
          <p:spPr>
            <a:xfrm>
              <a:off x="6378120" y="3097080"/>
              <a:ext cx="3373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t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5" name="Line 7"/>
            <p:cNvSpPr/>
            <p:nvPr/>
          </p:nvSpPr>
          <p:spPr>
            <a:xfrm>
              <a:off x="4299120" y="3174840"/>
              <a:ext cx="2286000" cy="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6" name="Rectangle 8"/>
            <p:cNvSpPr/>
            <p:nvPr/>
          </p:nvSpPr>
          <p:spPr>
            <a:xfrm>
              <a:off x="3292200" y="2106360"/>
              <a:ext cx="826560" cy="22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n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t=1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7" name="Rectangle 9"/>
            <p:cNvSpPr/>
            <p:nvPr/>
          </p:nvSpPr>
          <p:spPr>
            <a:xfrm>
              <a:off x="3151440" y="2423880"/>
              <a:ext cx="982080" cy="170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600" spc="-1" strike="noStrike">
                  <a:solidFill>
                    <a:srgbClr val="ffcc66"/>
                  </a:solidFill>
                  <a:latin typeface="Symbol"/>
                  <a:ea typeface="Symbol"/>
                </a:rPr>
                <a:t></a:t>
              </a:r>
              <a:endParaRPr b="1" lang="en-US" sz="10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7677000" cy="7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Risk-Adjusted Discount Rate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5438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How do we determine the appropriate risk-adjusted discount rate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(k*)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to use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Many firms set up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risk classes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to categorize different types of project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962160" y="228240"/>
            <a:ext cx="4120920" cy="69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Risk Classe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18680" y="1295280"/>
            <a:ext cx="8420040" cy="4572000"/>
          </a:xfrm>
          <a:prstGeom prst="rect">
            <a:avLst/>
          </a:prstGeom>
          <a:noFill/>
          <a:ln w="936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Risk     RADR                  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Class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 (k*) 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         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       Project  Type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   </a:t>
            </a: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1         12%               Replace equipment,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                  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Expand current busines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2         14%            Related new products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3         16%        Unrelated new product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4         24%      Research &amp; Developm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5682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Summary:</a:t>
            </a: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  Risk and Capital Budgeting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80769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You can adjust your capital budgeting methods for projects having different levels of risk by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djusting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scount rate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used (risk-adjusted discount rate method),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Measuring the project’s systematic risk,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Computer simulation methods,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Scenario analysis,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Sensitivity analysi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Three Measures of a Project’s Risk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08" name="Group 22"/>
          <p:cNvGrpSpPr/>
          <p:nvPr/>
        </p:nvGrpSpPr>
        <p:grpSpPr>
          <a:xfrm>
            <a:off x="3048120" y="1143000"/>
            <a:ext cx="5333760" cy="3276360"/>
            <a:chOff x="3048120" y="1143000"/>
            <a:chExt cx="5333760" cy="3276360"/>
          </a:xfrm>
        </p:grpSpPr>
        <p:grpSp>
          <p:nvGrpSpPr>
            <p:cNvPr id="109" name="Group 3"/>
            <p:cNvGrpSpPr/>
            <p:nvPr/>
          </p:nvGrpSpPr>
          <p:grpSpPr>
            <a:xfrm>
              <a:off x="3048120" y="1143000"/>
              <a:ext cx="2228760" cy="1447560"/>
              <a:chOff x="3048120" y="1143000"/>
              <a:chExt cx="2228760" cy="1447560"/>
            </a:xfrm>
          </p:grpSpPr>
          <p:sp>
            <p:nvSpPr>
              <p:cNvPr id="110" name="Oval 4"/>
              <p:cNvSpPr/>
              <p:nvPr/>
            </p:nvSpPr>
            <p:spPr>
              <a:xfrm>
                <a:off x="3048120" y="1143000"/>
                <a:ext cx="2209680" cy="144756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1" name="Text Box 5"/>
              <p:cNvSpPr/>
              <p:nvPr/>
            </p:nvSpPr>
            <p:spPr>
              <a:xfrm>
                <a:off x="3197160" y="1523880"/>
                <a:ext cx="20797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00"/>
                    </a:solidFill>
                    <a:latin typeface="Times New Roman"/>
                  </a:rPr>
                  <a:t>Project Standing </a:t>
                </a:r>
                <a:endParaRPr b="1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00"/>
                    </a:solidFill>
                    <a:latin typeface="Times New Roman"/>
                  </a:rPr>
                  <a:t>Alone Risk</a:t>
                </a:r>
                <a:endParaRPr b="1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Group 6"/>
            <p:cNvGrpSpPr/>
            <p:nvPr/>
          </p:nvGrpSpPr>
          <p:grpSpPr>
            <a:xfrm>
              <a:off x="5105520" y="1981080"/>
              <a:ext cx="3276360" cy="2438280"/>
              <a:chOff x="5105520" y="1981080"/>
              <a:chExt cx="3276360" cy="2438280"/>
            </a:xfrm>
          </p:grpSpPr>
          <p:sp>
            <p:nvSpPr>
              <p:cNvPr id="113" name="Oval 7"/>
              <p:cNvSpPr/>
              <p:nvPr/>
            </p:nvSpPr>
            <p:spPr>
              <a:xfrm>
                <a:off x="5105520" y="1981080"/>
                <a:ext cx="3276360" cy="243828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4" name="Text Box 8"/>
              <p:cNvSpPr/>
              <p:nvPr/>
            </p:nvSpPr>
            <p:spPr>
              <a:xfrm>
                <a:off x="5559840" y="2133360"/>
                <a:ext cx="2317320" cy="19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cc"/>
                    </a:solidFill>
                    <a:latin typeface="Times New Roman"/>
                  </a:rPr>
                  <a:t>Risk </a:t>
                </a:r>
                <a:endParaRPr b="1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cc"/>
                    </a:solidFill>
                    <a:latin typeface="Times New Roman"/>
                  </a:rPr>
                  <a:t>diversified away</a:t>
                </a:r>
                <a:endParaRPr b="1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cc"/>
                    </a:solidFill>
                    <a:latin typeface="Times New Roman"/>
                  </a:rPr>
                  <a:t>within firm as this</a:t>
                </a:r>
                <a:endParaRPr b="1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cc"/>
                    </a:solidFill>
                    <a:latin typeface="Times New Roman"/>
                  </a:rPr>
                  <a:t>project is combined</a:t>
                </a:r>
                <a:endParaRPr b="1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cc"/>
                    </a:solidFill>
                    <a:latin typeface="Times New Roman"/>
                  </a:rPr>
                  <a:t>with firm’s other</a:t>
                </a:r>
                <a:endParaRPr b="1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cc"/>
                    </a:solidFill>
                    <a:latin typeface="Times New Roman"/>
                  </a:rPr>
                  <a:t>projects and assets</a:t>
                </a:r>
                <a:endParaRPr b="1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15" name="Line 21"/>
            <p:cNvSpPr/>
            <p:nvPr/>
          </p:nvSpPr>
          <p:spPr>
            <a:xfrm>
              <a:off x="5257800" y="2133720"/>
              <a:ext cx="304920" cy="304560"/>
            </a:xfrm>
            <a:prstGeom prst="line">
              <a:avLst/>
            </a:prstGeom>
            <a:ln w="7632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Three Measures of a Project’s Risk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17" name="Group 22"/>
          <p:cNvGrpSpPr/>
          <p:nvPr/>
        </p:nvGrpSpPr>
        <p:grpSpPr>
          <a:xfrm>
            <a:off x="1676520" y="1143000"/>
            <a:ext cx="6705360" cy="3352680"/>
            <a:chOff x="1676520" y="1143000"/>
            <a:chExt cx="6705360" cy="3352680"/>
          </a:xfrm>
        </p:grpSpPr>
        <p:grpSp>
          <p:nvGrpSpPr>
            <p:cNvPr id="118" name="Group 3"/>
            <p:cNvGrpSpPr/>
            <p:nvPr/>
          </p:nvGrpSpPr>
          <p:grpSpPr>
            <a:xfrm>
              <a:off x="3048120" y="1143000"/>
              <a:ext cx="2228760" cy="1447560"/>
              <a:chOff x="3048120" y="1143000"/>
              <a:chExt cx="2228760" cy="1447560"/>
            </a:xfrm>
          </p:grpSpPr>
          <p:sp>
            <p:nvSpPr>
              <p:cNvPr id="119" name="Oval 4"/>
              <p:cNvSpPr/>
              <p:nvPr/>
            </p:nvSpPr>
            <p:spPr>
              <a:xfrm>
                <a:off x="3048120" y="1143000"/>
                <a:ext cx="2209680" cy="144756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0" name="Text Box 5"/>
              <p:cNvSpPr/>
              <p:nvPr/>
            </p:nvSpPr>
            <p:spPr>
              <a:xfrm>
                <a:off x="3197160" y="1523880"/>
                <a:ext cx="20797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00"/>
                    </a:solidFill>
                    <a:latin typeface="Times New Roman"/>
                  </a:rPr>
                  <a:t>Project Standing </a:t>
                </a:r>
                <a:endParaRPr b="1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00"/>
                    </a:solidFill>
                    <a:latin typeface="Times New Roman"/>
                  </a:rPr>
                  <a:t>Alone Risk</a:t>
                </a:r>
                <a:endParaRPr b="1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Group 6"/>
            <p:cNvGrpSpPr/>
            <p:nvPr/>
          </p:nvGrpSpPr>
          <p:grpSpPr>
            <a:xfrm>
              <a:off x="5105520" y="1981080"/>
              <a:ext cx="3276360" cy="2438280"/>
              <a:chOff x="5105520" y="1981080"/>
              <a:chExt cx="3276360" cy="2438280"/>
            </a:xfrm>
          </p:grpSpPr>
          <p:sp>
            <p:nvSpPr>
              <p:cNvPr id="122" name="Oval 7"/>
              <p:cNvSpPr/>
              <p:nvPr/>
            </p:nvSpPr>
            <p:spPr>
              <a:xfrm>
                <a:off x="5105520" y="1981080"/>
                <a:ext cx="3276360" cy="243828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3" name="Text Box 8"/>
              <p:cNvSpPr/>
              <p:nvPr/>
            </p:nvSpPr>
            <p:spPr>
              <a:xfrm>
                <a:off x="5559840" y="2133360"/>
                <a:ext cx="2317320" cy="19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cc"/>
                    </a:solidFill>
                    <a:latin typeface="Times New Roman"/>
                  </a:rPr>
                  <a:t>Risk </a:t>
                </a:r>
                <a:endParaRPr b="1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cc"/>
                    </a:solidFill>
                    <a:latin typeface="Times New Roman"/>
                  </a:rPr>
                  <a:t>diversified away</a:t>
                </a:r>
                <a:endParaRPr b="1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cc"/>
                    </a:solidFill>
                    <a:latin typeface="Times New Roman"/>
                  </a:rPr>
                  <a:t>within firm as this</a:t>
                </a:r>
                <a:endParaRPr b="1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cc"/>
                    </a:solidFill>
                    <a:latin typeface="Times New Roman"/>
                  </a:rPr>
                  <a:t>project is combined</a:t>
                </a:r>
                <a:endParaRPr b="1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cc"/>
                    </a:solidFill>
                    <a:latin typeface="Times New Roman"/>
                  </a:rPr>
                  <a:t>with firm’s other</a:t>
                </a:r>
                <a:endParaRPr b="1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cc"/>
                    </a:solidFill>
                    <a:latin typeface="Times New Roman"/>
                  </a:rPr>
                  <a:t>projects and assets</a:t>
                </a:r>
                <a:endParaRPr b="1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Group 12"/>
            <p:cNvGrpSpPr/>
            <p:nvPr/>
          </p:nvGrpSpPr>
          <p:grpSpPr>
            <a:xfrm>
              <a:off x="1676520" y="2743200"/>
              <a:ext cx="2209680" cy="1752480"/>
              <a:chOff x="1676520" y="2743200"/>
              <a:chExt cx="2209680" cy="1752480"/>
            </a:xfrm>
          </p:grpSpPr>
          <p:sp>
            <p:nvSpPr>
              <p:cNvPr id="125" name="Oval 13"/>
              <p:cNvSpPr/>
              <p:nvPr/>
            </p:nvSpPr>
            <p:spPr>
              <a:xfrm>
                <a:off x="1676520" y="2743200"/>
                <a:ext cx="2209680" cy="175248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6" name="Text Box 14"/>
              <p:cNvSpPr/>
              <p:nvPr/>
            </p:nvSpPr>
            <p:spPr>
              <a:xfrm>
                <a:off x="1979280" y="3124080"/>
                <a:ext cx="162540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00"/>
                    </a:solidFill>
                    <a:latin typeface="Times New Roman"/>
                  </a:rPr>
                  <a:t>Project’s</a:t>
                </a:r>
                <a:endParaRPr b="1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00"/>
                    </a:solidFill>
                    <a:latin typeface="Times New Roman"/>
                  </a:rPr>
                  <a:t>contribution-</a:t>
                </a:r>
                <a:endParaRPr b="1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00"/>
                    </a:solidFill>
                    <a:latin typeface="Times New Roman"/>
                  </a:rPr>
                  <a:t>to-firm risk</a:t>
                </a:r>
                <a:endParaRPr b="1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27" name="Line 18"/>
            <p:cNvSpPr/>
            <p:nvPr/>
          </p:nvSpPr>
          <p:spPr>
            <a:xfrm flipH="1">
              <a:off x="2971440" y="2362320"/>
              <a:ext cx="304920" cy="380880"/>
            </a:xfrm>
            <a:prstGeom prst="line">
              <a:avLst/>
            </a:prstGeom>
            <a:ln w="7632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" name="Line 21"/>
            <p:cNvSpPr/>
            <p:nvPr/>
          </p:nvSpPr>
          <p:spPr>
            <a:xfrm>
              <a:off x="5257800" y="2133720"/>
              <a:ext cx="304920" cy="304560"/>
            </a:xfrm>
            <a:prstGeom prst="line">
              <a:avLst/>
            </a:prstGeom>
            <a:ln w="7632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Three Measures of a Project’s Risk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30" name="Group 22"/>
          <p:cNvGrpSpPr/>
          <p:nvPr/>
        </p:nvGrpSpPr>
        <p:grpSpPr>
          <a:xfrm>
            <a:off x="1676520" y="1143000"/>
            <a:ext cx="6705360" cy="5715000"/>
            <a:chOff x="1676520" y="1143000"/>
            <a:chExt cx="6705360" cy="5715000"/>
          </a:xfrm>
        </p:grpSpPr>
        <p:grpSp>
          <p:nvGrpSpPr>
            <p:cNvPr id="131" name="Group 3"/>
            <p:cNvGrpSpPr/>
            <p:nvPr/>
          </p:nvGrpSpPr>
          <p:grpSpPr>
            <a:xfrm>
              <a:off x="3048120" y="1143000"/>
              <a:ext cx="2228760" cy="1447560"/>
              <a:chOff x="3048120" y="1143000"/>
              <a:chExt cx="2228760" cy="1447560"/>
            </a:xfrm>
          </p:grpSpPr>
          <p:sp>
            <p:nvSpPr>
              <p:cNvPr id="132" name="Oval 4"/>
              <p:cNvSpPr/>
              <p:nvPr/>
            </p:nvSpPr>
            <p:spPr>
              <a:xfrm>
                <a:off x="3048120" y="1143000"/>
                <a:ext cx="2209680" cy="144756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3" name="Text Box 5"/>
              <p:cNvSpPr/>
              <p:nvPr/>
            </p:nvSpPr>
            <p:spPr>
              <a:xfrm>
                <a:off x="3197160" y="1523880"/>
                <a:ext cx="20797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00"/>
                    </a:solidFill>
                    <a:latin typeface="Times New Roman"/>
                  </a:rPr>
                  <a:t>Project Standing </a:t>
                </a:r>
                <a:endParaRPr b="1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00"/>
                    </a:solidFill>
                    <a:latin typeface="Times New Roman"/>
                  </a:rPr>
                  <a:t>Alone Risk</a:t>
                </a:r>
                <a:endParaRPr b="1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Group 6"/>
            <p:cNvGrpSpPr/>
            <p:nvPr/>
          </p:nvGrpSpPr>
          <p:grpSpPr>
            <a:xfrm>
              <a:off x="5105520" y="1981080"/>
              <a:ext cx="3276360" cy="2438280"/>
              <a:chOff x="5105520" y="1981080"/>
              <a:chExt cx="3276360" cy="2438280"/>
            </a:xfrm>
          </p:grpSpPr>
          <p:sp>
            <p:nvSpPr>
              <p:cNvPr id="135" name="Oval 7"/>
              <p:cNvSpPr/>
              <p:nvPr/>
            </p:nvSpPr>
            <p:spPr>
              <a:xfrm>
                <a:off x="5105520" y="1981080"/>
                <a:ext cx="3276360" cy="243828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6" name="Text Box 8"/>
              <p:cNvSpPr/>
              <p:nvPr/>
            </p:nvSpPr>
            <p:spPr>
              <a:xfrm>
                <a:off x="5559840" y="2133360"/>
                <a:ext cx="2317320" cy="19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cc"/>
                    </a:solidFill>
                    <a:latin typeface="Times New Roman"/>
                  </a:rPr>
                  <a:t>Risk </a:t>
                </a:r>
                <a:endParaRPr b="1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cc"/>
                    </a:solidFill>
                    <a:latin typeface="Times New Roman"/>
                  </a:rPr>
                  <a:t>diversified away</a:t>
                </a:r>
                <a:endParaRPr b="1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cc"/>
                    </a:solidFill>
                    <a:latin typeface="Times New Roman"/>
                  </a:rPr>
                  <a:t>within firm as this</a:t>
                </a:r>
                <a:endParaRPr b="1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cc"/>
                    </a:solidFill>
                    <a:latin typeface="Times New Roman"/>
                  </a:rPr>
                  <a:t>project is combined</a:t>
                </a:r>
                <a:endParaRPr b="1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cc"/>
                    </a:solidFill>
                    <a:latin typeface="Times New Roman"/>
                  </a:rPr>
                  <a:t>with firm’s other</a:t>
                </a:r>
                <a:endParaRPr b="1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cc"/>
                    </a:solidFill>
                    <a:latin typeface="Times New Roman"/>
                  </a:rPr>
                  <a:t>projects and assets</a:t>
                </a:r>
                <a:endParaRPr b="1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Group 9"/>
            <p:cNvGrpSpPr/>
            <p:nvPr/>
          </p:nvGrpSpPr>
          <p:grpSpPr>
            <a:xfrm>
              <a:off x="5562720" y="4572000"/>
              <a:ext cx="2819160" cy="2286000"/>
              <a:chOff x="5562720" y="4572000"/>
              <a:chExt cx="2819160" cy="2286000"/>
            </a:xfrm>
          </p:grpSpPr>
          <p:sp>
            <p:nvSpPr>
              <p:cNvPr id="138" name="Oval 10"/>
              <p:cNvSpPr/>
              <p:nvPr/>
            </p:nvSpPr>
            <p:spPr>
              <a:xfrm>
                <a:off x="5562720" y="4572000"/>
                <a:ext cx="2819160" cy="228600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9" name="Text Box 11"/>
              <p:cNvSpPr/>
              <p:nvPr/>
            </p:nvSpPr>
            <p:spPr>
              <a:xfrm>
                <a:off x="5635800" y="4724280"/>
                <a:ext cx="2739600" cy="19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cc"/>
                    </a:solidFill>
                    <a:latin typeface="Times New Roman"/>
                  </a:rPr>
                  <a:t>Risk</a:t>
                </a:r>
                <a:endParaRPr b="1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cc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ffffcc"/>
                    </a:solidFill>
                    <a:latin typeface="Times New Roman"/>
                  </a:rPr>
                  <a:t>diversified away</a:t>
                </a:r>
                <a:endParaRPr b="1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cc"/>
                    </a:solidFill>
                    <a:latin typeface="Times New Roman"/>
                  </a:rPr>
                  <a:t>by shareholders as </a:t>
                </a:r>
                <a:endParaRPr b="1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cc"/>
                    </a:solidFill>
                    <a:latin typeface="Times New Roman"/>
                  </a:rPr>
                  <a:t>securities are combined</a:t>
                </a:r>
                <a:endParaRPr b="1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cc"/>
                    </a:solidFill>
                    <a:latin typeface="Times New Roman"/>
                  </a:rPr>
                  <a:t>to form diversified</a:t>
                </a:r>
                <a:endParaRPr b="1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cc"/>
                    </a:solidFill>
                    <a:latin typeface="Times New Roman"/>
                  </a:rPr>
                  <a:t>portfolio</a:t>
                </a:r>
                <a:endParaRPr b="1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Group 12"/>
            <p:cNvGrpSpPr/>
            <p:nvPr/>
          </p:nvGrpSpPr>
          <p:grpSpPr>
            <a:xfrm>
              <a:off x="1676520" y="2743200"/>
              <a:ext cx="2209680" cy="1752480"/>
              <a:chOff x="1676520" y="2743200"/>
              <a:chExt cx="2209680" cy="1752480"/>
            </a:xfrm>
          </p:grpSpPr>
          <p:sp>
            <p:nvSpPr>
              <p:cNvPr id="141" name="Oval 13"/>
              <p:cNvSpPr/>
              <p:nvPr/>
            </p:nvSpPr>
            <p:spPr>
              <a:xfrm>
                <a:off x="1676520" y="2743200"/>
                <a:ext cx="2209680" cy="175248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2" name="Text Box 14"/>
              <p:cNvSpPr/>
              <p:nvPr/>
            </p:nvSpPr>
            <p:spPr>
              <a:xfrm>
                <a:off x="1979280" y="3124080"/>
                <a:ext cx="162540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00"/>
                    </a:solidFill>
                    <a:latin typeface="Times New Roman"/>
                  </a:rPr>
                  <a:t>Project’s</a:t>
                </a:r>
                <a:endParaRPr b="1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00"/>
                    </a:solidFill>
                    <a:latin typeface="Times New Roman"/>
                  </a:rPr>
                  <a:t>contribution-</a:t>
                </a:r>
                <a:endParaRPr b="1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00"/>
                    </a:solidFill>
                    <a:latin typeface="Times New Roman"/>
                  </a:rPr>
                  <a:t>to-firm risk</a:t>
                </a:r>
                <a:endParaRPr b="1" lang="en-US" sz="2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43" name="Line 18"/>
            <p:cNvSpPr/>
            <p:nvPr/>
          </p:nvSpPr>
          <p:spPr>
            <a:xfrm flipH="1">
              <a:off x="2971440" y="2362320"/>
              <a:ext cx="304920" cy="380880"/>
            </a:xfrm>
            <a:prstGeom prst="line">
              <a:avLst/>
            </a:prstGeom>
            <a:ln w="7632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4" name="Line 20"/>
            <p:cNvSpPr/>
            <p:nvPr/>
          </p:nvSpPr>
          <p:spPr>
            <a:xfrm>
              <a:off x="3962520" y="4114800"/>
              <a:ext cx="1523880" cy="990720"/>
            </a:xfrm>
            <a:prstGeom prst="line">
              <a:avLst/>
            </a:prstGeom>
            <a:ln w="7632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5" name="Line 21"/>
            <p:cNvSpPr/>
            <p:nvPr/>
          </p:nvSpPr>
          <p:spPr>
            <a:xfrm>
              <a:off x="5257800" y="2133720"/>
              <a:ext cx="304920" cy="304560"/>
            </a:xfrm>
            <a:prstGeom prst="line">
              <a:avLst/>
            </a:prstGeom>
            <a:ln w="7632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Three Measures of a Project’s Risk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048120" y="1143000"/>
            <a:ext cx="2228760" cy="1447560"/>
            <a:chOff x="3048120" y="1143000"/>
            <a:chExt cx="2228760" cy="1447560"/>
          </a:xfrm>
        </p:grpSpPr>
        <p:sp>
          <p:nvSpPr>
            <p:cNvPr id="148" name="Oval 4"/>
            <p:cNvSpPr/>
            <p:nvPr/>
          </p:nvSpPr>
          <p:spPr>
            <a:xfrm>
              <a:off x="3048120" y="1143000"/>
              <a:ext cx="2209680" cy="1447560"/>
            </a:xfrm>
            <a:prstGeom prst="ellipse">
              <a:avLst/>
            </a:prstGeom>
            <a:solidFill>
              <a:srgbClr val="000066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9" name="Text Box 5"/>
            <p:cNvSpPr/>
            <p:nvPr/>
          </p:nvSpPr>
          <p:spPr>
            <a:xfrm>
              <a:off x="3197160" y="1523880"/>
              <a:ext cx="2079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Project Standing </a:t>
              </a:r>
              <a:endParaRPr b="1" lang="en-US" sz="20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Alone Risk</a:t>
              </a:r>
              <a:endParaRPr b="1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50" name="Group 6"/>
          <p:cNvGrpSpPr/>
          <p:nvPr/>
        </p:nvGrpSpPr>
        <p:grpSpPr>
          <a:xfrm>
            <a:off x="5105520" y="1981080"/>
            <a:ext cx="3276360" cy="2438280"/>
            <a:chOff x="5105520" y="1981080"/>
            <a:chExt cx="3276360" cy="2438280"/>
          </a:xfrm>
        </p:grpSpPr>
        <p:sp>
          <p:nvSpPr>
            <p:cNvPr id="151" name="Oval 7"/>
            <p:cNvSpPr/>
            <p:nvPr/>
          </p:nvSpPr>
          <p:spPr>
            <a:xfrm>
              <a:off x="5105520" y="1981080"/>
              <a:ext cx="3276360" cy="2438280"/>
            </a:xfrm>
            <a:prstGeom prst="ellipse">
              <a:avLst/>
            </a:prstGeom>
            <a:solidFill>
              <a:srgbClr val="000066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2" name="Text Box 8"/>
            <p:cNvSpPr/>
            <p:nvPr/>
          </p:nvSpPr>
          <p:spPr>
            <a:xfrm>
              <a:off x="5559840" y="2133360"/>
              <a:ext cx="231732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Risk </a:t>
              </a:r>
              <a:endParaRPr b="1" lang="en-US" sz="20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diversified away</a:t>
              </a:r>
              <a:endParaRPr b="1" lang="en-US" sz="20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within firm as this</a:t>
              </a:r>
              <a:endParaRPr b="1" lang="en-US" sz="20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project is combined</a:t>
              </a:r>
              <a:endParaRPr b="1" lang="en-US" sz="20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with firm’s other</a:t>
              </a:r>
              <a:endParaRPr b="1" lang="en-US" sz="20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projects and assets</a:t>
              </a:r>
              <a:endParaRPr b="1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53" name="Group 9"/>
          <p:cNvGrpSpPr/>
          <p:nvPr/>
        </p:nvGrpSpPr>
        <p:grpSpPr>
          <a:xfrm>
            <a:off x="5562720" y="4572000"/>
            <a:ext cx="2819160" cy="2286000"/>
            <a:chOff x="5562720" y="4572000"/>
            <a:chExt cx="2819160" cy="2286000"/>
          </a:xfrm>
        </p:grpSpPr>
        <p:sp>
          <p:nvSpPr>
            <p:cNvPr id="154" name="Oval 10"/>
            <p:cNvSpPr/>
            <p:nvPr/>
          </p:nvSpPr>
          <p:spPr>
            <a:xfrm>
              <a:off x="5562720" y="4572000"/>
              <a:ext cx="2819160" cy="2286000"/>
            </a:xfrm>
            <a:prstGeom prst="ellipse">
              <a:avLst/>
            </a:prstGeom>
            <a:solidFill>
              <a:srgbClr val="000066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5" name="Text Box 11"/>
            <p:cNvSpPr/>
            <p:nvPr/>
          </p:nvSpPr>
          <p:spPr>
            <a:xfrm>
              <a:off x="5635800" y="4724280"/>
              <a:ext cx="273960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Risk</a:t>
              </a:r>
              <a:endParaRPr b="1" lang="en-US" sz="20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diversified away</a:t>
              </a:r>
              <a:endParaRPr b="1" lang="en-US" sz="20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by shareholders as </a:t>
              </a:r>
              <a:endParaRPr b="1" lang="en-US" sz="20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securities are combined</a:t>
              </a:r>
              <a:endParaRPr b="1" lang="en-US" sz="20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to form diversified</a:t>
              </a:r>
              <a:endParaRPr b="1" lang="en-US" sz="20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portfolio</a:t>
              </a:r>
              <a:endParaRPr b="1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56" name="Group 12"/>
          <p:cNvGrpSpPr/>
          <p:nvPr/>
        </p:nvGrpSpPr>
        <p:grpSpPr>
          <a:xfrm>
            <a:off x="1676520" y="2743200"/>
            <a:ext cx="2209680" cy="1752480"/>
            <a:chOff x="1676520" y="2743200"/>
            <a:chExt cx="2209680" cy="1752480"/>
          </a:xfrm>
        </p:grpSpPr>
        <p:sp>
          <p:nvSpPr>
            <p:cNvPr id="157" name="Oval 13"/>
            <p:cNvSpPr/>
            <p:nvPr/>
          </p:nvSpPr>
          <p:spPr>
            <a:xfrm>
              <a:off x="1676520" y="2743200"/>
              <a:ext cx="2209680" cy="1752480"/>
            </a:xfrm>
            <a:prstGeom prst="ellipse">
              <a:avLst/>
            </a:prstGeom>
            <a:solidFill>
              <a:srgbClr val="000066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8" name="Text Box 14"/>
            <p:cNvSpPr/>
            <p:nvPr/>
          </p:nvSpPr>
          <p:spPr>
            <a:xfrm>
              <a:off x="1979280" y="3124080"/>
              <a:ext cx="16254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Project’s</a:t>
              </a:r>
              <a:endParaRPr b="1" lang="en-US" sz="20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contribution-</a:t>
              </a:r>
              <a:endParaRPr b="1" lang="en-US" sz="20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to-firm risk</a:t>
              </a:r>
              <a:endParaRPr b="1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59" name="Group 15"/>
          <p:cNvGrpSpPr/>
          <p:nvPr/>
        </p:nvGrpSpPr>
        <p:grpSpPr>
          <a:xfrm>
            <a:off x="1523880" y="5105520"/>
            <a:ext cx="2210040" cy="1752480"/>
            <a:chOff x="1523880" y="5105520"/>
            <a:chExt cx="2210040" cy="1752480"/>
          </a:xfrm>
        </p:grpSpPr>
        <p:sp>
          <p:nvSpPr>
            <p:cNvPr id="160" name="Oval 16"/>
            <p:cNvSpPr/>
            <p:nvPr/>
          </p:nvSpPr>
          <p:spPr>
            <a:xfrm>
              <a:off x="1523880" y="5105520"/>
              <a:ext cx="2210040" cy="1752480"/>
            </a:xfrm>
            <a:prstGeom prst="ellipse">
              <a:avLst/>
            </a:prstGeom>
            <a:solidFill>
              <a:srgbClr val="000066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1" name="Text Box 17"/>
            <p:cNvSpPr/>
            <p:nvPr/>
          </p:nvSpPr>
          <p:spPr>
            <a:xfrm>
              <a:off x="1674000" y="5791320"/>
              <a:ext cx="1843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Times New Roman"/>
                </a:rPr>
                <a:t>Systematic risk</a:t>
              </a:r>
              <a:endParaRPr b="1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62" name="Line 18"/>
          <p:cNvSpPr/>
          <p:nvPr/>
        </p:nvSpPr>
        <p:spPr>
          <a:xfrm flipH="1">
            <a:off x="2971440" y="2362320"/>
            <a:ext cx="304920" cy="380880"/>
          </a:xfrm>
          <a:prstGeom prst="line">
            <a:avLst/>
          </a:prstGeom>
          <a:ln w="7632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Line 19"/>
          <p:cNvSpPr/>
          <p:nvPr/>
        </p:nvSpPr>
        <p:spPr>
          <a:xfrm>
            <a:off x="2590920" y="4572000"/>
            <a:ext cx="0" cy="457200"/>
          </a:xfrm>
          <a:prstGeom prst="line">
            <a:avLst/>
          </a:prstGeom>
          <a:ln w="7632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Line 20"/>
          <p:cNvSpPr/>
          <p:nvPr/>
        </p:nvSpPr>
        <p:spPr>
          <a:xfrm>
            <a:off x="3962520" y="4114800"/>
            <a:ext cx="1523880" cy="990720"/>
          </a:xfrm>
          <a:prstGeom prst="line">
            <a:avLst/>
          </a:prstGeom>
          <a:ln w="7632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Line 21"/>
          <p:cNvSpPr/>
          <p:nvPr/>
        </p:nvSpPr>
        <p:spPr>
          <a:xfrm>
            <a:off x="5257800" y="2133720"/>
            <a:ext cx="304920" cy="304560"/>
          </a:xfrm>
          <a:prstGeom prst="line">
            <a:avLst/>
          </a:prstGeom>
          <a:ln w="7632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61596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Incorporating Risk into Capital Budget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7562880" cy="253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Two Methods: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Certainty Equivalent Approach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Risk-Adjusted Discount Rat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759800" cy="113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How can we adjust this model to take risk into account?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69" name="Group 11"/>
          <p:cNvGrpSpPr/>
          <p:nvPr/>
        </p:nvGrpSpPr>
        <p:grpSpPr>
          <a:xfrm>
            <a:off x="838080" y="1600200"/>
            <a:ext cx="7900560" cy="2349360"/>
            <a:chOff x="838080" y="1600200"/>
            <a:chExt cx="7900560" cy="2349360"/>
          </a:xfrm>
        </p:grpSpPr>
        <p:sp>
          <p:nvSpPr>
            <p:cNvPr id="170" name="AutoShape 3"/>
            <p:cNvSpPr/>
            <p:nvPr/>
          </p:nvSpPr>
          <p:spPr>
            <a:xfrm>
              <a:off x="838080" y="1600200"/>
              <a:ext cx="7778520" cy="2349360"/>
            </a:xfrm>
            <a:prstGeom prst="roundRect">
              <a:avLst>
                <a:gd name="adj" fmla="val 12495"/>
              </a:avLst>
            </a:prstGeom>
            <a:noFill/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71" name="Group 4"/>
            <p:cNvGrpSpPr/>
            <p:nvPr/>
          </p:nvGrpSpPr>
          <p:grpSpPr>
            <a:xfrm>
              <a:off x="919800" y="1630080"/>
              <a:ext cx="7818840" cy="2287080"/>
              <a:chOff x="919800" y="1630080"/>
              <a:chExt cx="7818840" cy="2287080"/>
            </a:xfrm>
          </p:grpSpPr>
          <p:sp>
            <p:nvSpPr>
              <p:cNvPr id="172" name="Rectangle 5"/>
              <p:cNvSpPr/>
              <p:nvPr/>
            </p:nvSpPr>
            <p:spPr>
              <a:xfrm>
                <a:off x="919800" y="2339640"/>
                <a:ext cx="7818840" cy="76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ffff"/>
                    </a:solidFill>
                    <a:latin typeface="Times New Roman"/>
                  </a:rPr>
                  <a:t>NPV   =                              -   IO  </a:t>
                </a:r>
                <a:endParaRPr b="1" lang="en-US" sz="4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3" name="Rectangle 6"/>
              <p:cNvSpPr/>
              <p:nvPr/>
            </p:nvSpPr>
            <p:spPr>
              <a:xfrm>
                <a:off x="4453200" y="2035080"/>
                <a:ext cx="1747080" cy="143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1" lang="en-US" sz="4400" spc="-1" strike="noStrike">
                    <a:solidFill>
                      <a:srgbClr val="ffffff"/>
                    </a:solidFill>
                    <a:latin typeface="Times New Roman"/>
                  </a:rPr>
                  <a:t>ACF</a:t>
                </a: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ffff"/>
                    </a:solidFill>
                    <a:latin typeface="Times New Roman"/>
                  </a:rPr>
                  <a:t>(1 + k)</a:t>
                </a:r>
                <a:endParaRPr b="1" lang="en-US" sz="4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4" name="Rectangle 7"/>
              <p:cNvSpPr/>
              <p:nvPr/>
            </p:nvSpPr>
            <p:spPr>
              <a:xfrm>
                <a:off x="6244560" y="2639880"/>
                <a:ext cx="3373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5" name="Line 8"/>
              <p:cNvSpPr/>
              <p:nvPr/>
            </p:nvSpPr>
            <p:spPr>
              <a:xfrm>
                <a:off x="4222440" y="2698560"/>
                <a:ext cx="228600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6" name="Rectangle 9"/>
              <p:cNvSpPr/>
              <p:nvPr/>
            </p:nvSpPr>
            <p:spPr>
              <a:xfrm>
                <a:off x="3215880" y="1630080"/>
                <a:ext cx="826560" cy="22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  </a:t>
                </a: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n</a:t>
                </a:r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t=1</a:t>
                </a:r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7" name="Rectangle 10"/>
              <p:cNvSpPr/>
              <p:nvPr/>
            </p:nvSpPr>
            <p:spPr>
              <a:xfrm>
                <a:off x="3046320" y="1957320"/>
                <a:ext cx="982080" cy="170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</a:t>
                </a:r>
                <a:endParaRPr b="1" lang="en-US" sz="10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759800" cy="113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How can we adjust this model to take risk into account?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4152600"/>
            <a:ext cx="871236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Adjust the After-tax Cash Flows (ACFs), o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Adjust the discount rate (k)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80" name="Group 12"/>
          <p:cNvGrpSpPr/>
          <p:nvPr/>
        </p:nvGrpSpPr>
        <p:grpSpPr>
          <a:xfrm>
            <a:off x="838080" y="1600200"/>
            <a:ext cx="7900560" cy="2349360"/>
            <a:chOff x="838080" y="1600200"/>
            <a:chExt cx="7900560" cy="2349360"/>
          </a:xfrm>
        </p:grpSpPr>
        <p:sp>
          <p:nvSpPr>
            <p:cNvPr id="181" name="AutoShape 4"/>
            <p:cNvSpPr/>
            <p:nvPr/>
          </p:nvSpPr>
          <p:spPr>
            <a:xfrm>
              <a:off x="838080" y="1600200"/>
              <a:ext cx="7778520" cy="2349360"/>
            </a:xfrm>
            <a:prstGeom prst="roundRect">
              <a:avLst>
                <a:gd name="adj" fmla="val 12495"/>
              </a:avLst>
            </a:prstGeom>
            <a:noFill/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82" name="Group 5"/>
            <p:cNvGrpSpPr/>
            <p:nvPr/>
          </p:nvGrpSpPr>
          <p:grpSpPr>
            <a:xfrm>
              <a:off x="919800" y="1630080"/>
              <a:ext cx="7818840" cy="2287080"/>
              <a:chOff x="919800" y="1630080"/>
              <a:chExt cx="7818840" cy="2287080"/>
            </a:xfrm>
          </p:grpSpPr>
          <p:sp>
            <p:nvSpPr>
              <p:cNvPr id="183" name="Rectangle 6"/>
              <p:cNvSpPr/>
              <p:nvPr/>
            </p:nvSpPr>
            <p:spPr>
              <a:xfrm>
                <a:off x="919800" y="2339640"/>
                <a:ext cx="7818840" cy="76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ffff"/>
                    </a:solidFill>
                    <a:latin typeface="Times New Roman"/>
                  </a:rPr>
                  <a:t>NPV   =                              -   IO  </a:t>
                </a:r>
                <a:endParaRPr b="1" lang="en-US" sz="4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4" name="Rectangle 7"/>
              <p:cNvSpPr/>
              <p:nvPr/>
            </p:nvSpPr>
            <p:spPr>
              <a:xfrm>
                <a:off x="4453200" y="2035080"/>
                <a:ext cx="1747080" cy="143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1" lang="en-US" sz="4400" spc="-1" strike="noStrike">
                    <a:solidFill>
                      <a:srgbClr val="ffffff"/>
                    </a:solidFill>
                    <a:latin typeface="Times New Roman"/>
                  </a:rPr>
                  <a:t>ACF</a:t>
                </a: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ffff"/>
                    </a:solidFill>
                    <a:latin typeface="Times New Roman"/>
                  </a:rPr>
                  <a:t>(1 + k)</a:t>
                </a:r>
                <a:endParaRPr b="1" lang="en-US" sz="4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5" name="Rectangle 8"/>
              <p:cNvSpPr/>
              <p:nvPr/>
            </p:nvSpPr>
            <p:spPr>
              <a:xfrm>
                <a:off x="6244560" y="2639880"/>
                <a:ext cx="3373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6" name="Line 9"/>
              <p:cNvSpPr/>
              <p:nvPr/>
            </p:nvSpPr>
            <p:spPr>
              <a:xfrm>
                <a:off x="4222440" y="2698560"/>
                <a:ext cx="228600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7" name="Rectangle 10"/>
              <p:cNvSpPr/>
              <p:nvPr/>
            </p:nvSpPr>
            <p:spPr>
              <a:xfrm>
                <a:off x="3215880" y="1630080"/>
                <a:ext cx="826560" cy="22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  </a:t>
                </a: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n</a:t>
                </a:r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t=1</a:t>
                </a:r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8" name="Rectangle 11"/>
              <p:cNvSpPr/>
              <p:nvPr/>
            </p:nvSpPr>
            <p:spPr>
              <a:xfrm>
                <a:off x="3046320" y="1957320"/>
                <a:ext cx="982080" cy="170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</a:t>
                </a:r>
                <a:endParaRPr b="1" lang="en-US" sz="10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0-24T11:20:08Z</dcterms:created>
  <dc:creator>Anthony K. Byrd, Associate Professor of Finance</dc:creator>
  <dc:description/>
  <cp:keywords/>
  <dc:language>en-US</dc:language>
  <cp:lastModifiedBy>keran sohail</cp:lastModifiedBy>
  <dcterms:modified xsi:type="dcterms:W3CDTF">2020-04-02T06:33:04Z</dcterms:modified>
  <cp:revision>28</cp:revision>
  <dc:subject>Ch. 11:  Capital Budgeting and Risk Analysis</dc:subject>
  <dc:title>Financial Management</dc:title>
</cp:coreProperties>
</file>